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8BC-0841-4DC0-8449-7A586C24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617-AD93-41FF-9336-89805836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37E-8F85-438B-821D-DC11B211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D55-7ED5-4415-BE7B-8A6C81DD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F9C8-A18E-4EDC-87BF-D246283A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4D8E-4654-420A-86AB-21CD9BB8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3ADA-3709-4E65-9E0B-A32272B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5481-CF54-48D8-AE89-9D645F9C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F1EB-90F3-4CA2-A332-3ED4421E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91FC-2CC4-4B02-B90E-6DE053C8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3F5B-203D-4603-B638-E04650E1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D468-F1CC-4AC2-A76E-D467EC03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4824-CB3D-430B-AECC-8AE0597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5F78-0702-46CB-A8B3-53B47E3C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C18B-A9A9-4511-B293-6E63D0A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182E-304B-446A-81DC-F0CB9533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AA09-7493-40A0-A0C9-AF6A22B4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BFD-A8CB-41C4-BA98-E238B2C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085-5716-4193-BEAB-52FA3B61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A62-3618-4725-959B-A4AFD6DC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E39C-4EC7-4595-8130-FAA021AE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84D-BC14-4AB5-A7BE-D70A51D0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EBEF-8A16-4518-81CF-9F14D6D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895-BC6F-452A-A0E0-DB67CD58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600"/>
            <a:ext cx="2869560" cy="3275640"/>
            <a:chOff x="6274080" y="-21600"/>
            <a:chExt cx="286956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600"/>
              <a:ext cx="2869560" cy="2269080"/>
              <a:chOff x="6274080" y="-21600"/>
              <a:chExt cx="286956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600"/>
                <a:ext cx="2866320" cy="2269080"/>
                <a:chOff x="6274080" y="-21600"/>
                <a:chExt cx="28663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4160" cy="1140840"/>
                  <a:chOff x="783432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360" y="1602720"/>
                    <a:ext cx="473040" cy="249840"/>
                  </a:xfrm>
                  <a:custGeom>
                    <a:avLst/>
                    <a:gdLst>
                      <a:gd name="textAreaLeft" fmla="*/ 0 w 473040"/>
                      <a:gd name="textAreaRight" fmla="*/ 473400 w 47304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840" y="695880"/>
                  <a:ext cx="1303560" cy="669240"/>
                  <a:chOff x="783684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460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4600"/>
                      <a:gd name="textAreaBottom" fmla="*/ 174960 h 174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1880" y="1033920"/>
                    <a:ext cx="458280" cy="266760"/>
                  </a:xfrm>
                  <a:custGeom>
                    <a:avLst/>
                    <a:gdLst>
                      <a:gd name="textAreaLeft" fmla="*/ 0 w 458280"/>
                      <a:gd name="textAreaRight" fmla="*/ 458640 w 45828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240"/>
                  <a:chOff x="7852680" y="657720"/>
                  <a:chExt cx="122328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416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4160"/>
                      <a:gd name="textAreaBottom" fmla="*/ 164520 h 164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400"/>
                    <a:ext cx="425160" cy="2502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2680"/>
                    <a:ext cx="720360" cy="10764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07640"/>
                      <a:gd name="textAreaBottom" fmla="*/ 108000 h 107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400"/>
                  <a:ext cx="983520" cy="327240"/>
                  <a:chOff x="7845840" y="419400"/>
                  <a:chExt cx="98352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040" cy="10692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06920"/>
                      <a:gd name="textAreaBottom" fmla="*/ 107280 h 106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320" y="456120"/>
                    <a:ext cx="340200" cy="177480"/>
                  </a:xfrm>
                  <a:custGeom>
                    <a:avLst/>
                    <a:gdLst>
                      <a:gd name="textAreaLeft" fmla="*/ 0 w 340200"/>
                      <a:gd name="textAreaRight" fmla="*/ 340560 w 34020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5040"/>
                  <a:ext cx="1060920" cy="1141920"/>
                  <a:chOff x="6539040" y="905040"/>
                  <a:chExt cx="106092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200" y="1193040"/>
                    <a:ext cx="879120" cy="160200"/>
                  </a:xfrm>
                  <a:custGeom>
                    <a:avLst/>
                    <a:gdLst>
                      <a:gd name="textAreaLeft" fmla="*/ 360 w 879120"/>
                      <a:gd name="textAreaRight" fmla="*/ 879840 w 8791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120" y="1665720"/>
                    <a:ext cx="471960" cy="250920"/>
                  </a:xfrm>
                  <a:custGeom>
                    <a:avLst/>
                    <a:gdLst>
                      <a:gd name="textAreaLeft" fmla="*/ -360 w 471960"/>
                      <a:gd name="textAreaRight" fmla="*/ 471960 w 4719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120" cy="1051920"/>
                  <a:chOff x="6303960" y="86184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4400" y="1112400"/>
                    <a:ext cx="928800" cy="177840"/>
                  </a:xfrm>
                  <a:custGeom>
                    <a:avLst/>
                    <a:gdLst>
                      <a:gd name="textAreaLeft" fmla="*/ 360 w 928800"/>
                      <a:gd name="textAreaRight" fmla="*/ 929520 w 9288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600"/>
                    <a:ext cx="499320" cy="279720"/>
                  </a:xfrm>
                  <a:custGeom>
                    <a:avLst/>
                    <a:gdLst>
                      <a:gd name="textAreaLeft" fmla="*/ -360 w 499320"/>
                      <a:gd name="textAreaRight" fmla="*/ 499320 w 49932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360"/>
                  <a:chOff x="6287040" y="827280"/>
                  <a:chExt cx="128772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6000" y="1016640"/>
                    <a:ext cx="890280" cy="15732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7320"/>
                      <a:gd name="textAreaBottom" fmla="*/ 157680 h 157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480" y="1321920"/>
                    <a:ext cx="477360" cy="2397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840" cy="668520"/>
                  <a:chOff x="6274080" y="787320"/>
                  <a:chExt cx="130284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6884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8840"/>
                      <a:gd name="textAreaBottom" fmla="*/ 169200 h 168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600" y="1123560"/>
                    <a:ext cx="461520" cy="26712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7120"/>
                      <a:gd name="textAreaBottom" fmla="*/ 267480 h 267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696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6960"/>
                      <a:gd name="textAreaBottom" fmla="*/ 157320 h 156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2440"/>
                    <a:ext cx="425160" cy="24552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5520"/>
                      <a:gd name="textAreaBottom" fmla="*/ 245880 h 245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2680"/>
                    <a:ext cx="720360" cy="10800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08000"/>
                      <a:gd name="textAreaBottom" fmla="*/ 108360 h 108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>
                      <a:gd name="textAreaLeft" fmla="*/ -360 w 634680"/>
                      <a:gd name="textAreaRight" fmla="*/ 634680 w 6346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>
                      <a:gd name="textAreaLeft" fmla="*/ -360 w 341640"/>
                      <a:gd name="textAreaRight" fmla="*/ 341640 w 341640"/>
                      <a:gd name="textAreaTop" fmla="*/ 0 h 169560"/>
                      <a:gd name="textAreaBottom" fmla="*/ 169560 h 169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120" y="-21600"/>
                  <a:ext cx="465480" cy="808920"/>
                  <a:chOff x="7287120" y="-21600"/>
                  <a:chExt cx="465480" cy="80892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840" y="460440"/>
                    <a:ext cx="541080" cy="109440"/>
                  </a:xfrm>
                  <a:custGeom>
                    <a:avLst/>
                    <a:gdLst>
                      <a:gd name="textAreaLeft" fmla="*/ -360 w 541080"/>
                      <a:gd name="textAreaRight" fmla="*/ 541080 w 5410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440" y="60120"/>
                    <a:ext cx="294480" cy="173520"/>
                  </a:xfrm>
                  <a:custGeom>
                    <a:avLst/>
                    <a:gdLst>
                      <a:gd name="textAreaLeft" fmla="*/ 360 w 294480"/>
                      <a:gd name="textAreaRight" fmla="*/ 295200 w 294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440" cy="461160"/>
                  <a:chOff x="7792920" y="273600"/>
                  <a:chExt cx="96444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3480" y="329760"/>
                    <a:ext cx="333360" cy="1731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160"/>
                  <a:ext cx="916200" cy="604440"/>
                  <a:chOff x="7737840" y="13716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520"/>
                    <a:ext cx="635040" cy="110880"/>
                  </a:xfrm>
                  <a:custGeom>
                    <a:avLst/>
                    <a:gdLst>
                      <a:gd name="textAreaLeft" fmla="*/ 0 w 635040"/>
                      <a:gd name="textAreaRight" fmla="*/ 635400 w 6350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7640" y="212760"/>
                    <a:ext cx="335880" cy="173880"/>
                  </a:xfrm>
                  <a:custGeom>
                    <a:avLst/>
                    <a:gdLst>
                      <a:gd name="textAreaLeft" fmla="*/ 0 w 335880"/>
                      <a:gd name="textAreaRight" fmla="*/ 336240 w 3358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0800"/>
                  <a:ext cx="497160" cy="789840"/>
                  <a:chOff x="7666200" y="-10800"/>
                  <a:chExt cx="497160" cy="78984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6560"/>
                    <a:ext cx="542520" cy="95040"/>
                  </a:xfrm>
                  <a:custGeom>
                    <a:avLst/>
                    <a:gdLst>
                      <a:gd name="textAreaLeft" fmla="*/ 0 w 542520"/>
                      <a:gd name="textAreaRight" fmla="*/ 542880 w 542520"/>
                      <a:gd name="textAreaTop" fmla="*/ 0 h 95040"/>
                      <a:gd name="textAreaBottom" fmla="*/ 95400 h 950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880" y="79200"/>
                    <a:ext cx="293040" cy="147600"/>
                  </a:xfrm>
                  <a:custGeom>
                    <a:avLst/>
                    <a:gdLst>
                      <a:gd name="textAreaLeft" fmla="*/ 0 w 293040"/>
                      <a:gd name="textAreaRight" fmla="*/ 293400 w 2930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120"/>
                  <a:chOff x="6710400" y="930240"/>
                  <a:chExt cx="914760" cy="124812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5840" y="1258200"/>
                    <a:ext cx="889560" cy="160560"/>
                  </a:xfrm>
                  <a:custGeom>
                    <a:avLst/>
                    <a:gdLst>
                      <a:gd name="textAreaLeft" fmla="*/ -360 w 889560"/>
                      <a:gd name="textAreaRight" fmla="*/ 889560 w 8895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560" y="1785960"/>
                    <a:ext cx="477360" cy="2505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320" cy="1248480"/>
                  <a:chOff x="7015320" y="979200"/>
                  <a:chExt cx="61632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040" y="1310040"/>
                    <a:ext cx="823320" cy="160200"/>
                  </a:xfrm>
                  <a:custGeom>
                    <a:avLst/>
                    <a:gdLst>
                      <a:gd name="textAreaLeft" fmla="*/ -360 w 823320"/>
                      <a:gd name="textAreaRight" fmla="*/ 823320 w 823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880" y="1852200"/>
                    <a:ext cx="436320" cy="250920"/>
                  </a:xfrm>
                  <a:custGeom>
                    <a:avLst/>
                    <a:gdLst>
                      <a:gd name="textAreaLeft" fmla="*/ 360 w 436320"/>
                      <a:gd name="textAreaRight" fmla="*/ 437040 w 4363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>
                      <a:gd name="textAreaLeft" fmla="*/ 0 w 454320"/>
                      <a:gd name="textAreaRight" fmla="*/ 454680 w 45432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>
                      <a:gd name="textAreaLeft" fmla="*/ 0 w 820800"/>
                      <a:gd name="textAreaRight" fmla="*/ 821160 w 82080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>
                      <a:gd name="textAreaLeft" fmla="*/ 0 w 439560"/>
                      <a:gd name="textAreaRight" fmla="*/ 439920 w 43956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4320" y="1376640"/>
                    <a:ext cx="752400" cy="126360"/>
                  </a:xfrm>
                  <a:custGeom>
                    <a:avLst/>
                    <a:gdLst>
                      <a:gd name="textAreaLeft" fmla="*/ 0 w 752400"/>
                      <a:gd name="textAreaRight" fmla="*/ 752760 w 75240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899360"/>
                    <a:ext cx="407160" cy="197640"/>
                  </a:xfrm>
                  <a:custGeom>
                    <a:avLst/>
                    <a:gdLst>
                      <a:gd name="textAreaLeft" fmla="*/ 0 w 407160"/>
                      <a:gd name="textAreaRight" fmla="*/ 407520 w 40716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2560"/>
                    <a:ext cx="740160" cy="95760"/>
                  </a:xfrm>
                  <a:custGeom>
                    <a:avLst/>
                    <a:gdLst>
                      <a:gd name="textAreaLeft" fmla="*/ 0 w 740160"/>
                      <a:gd name="textAreaRight" fmla="*/ 740520 w 74016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560"/>
                  </a:xfrm>
                  <a:custGeom>
                    <a:avLst/>
                    <a:gdLst>
                      <a:gd name="textAreaLeft" fmla="*/ 0 w 396360"/>
                      <a:gd name="textAreaRight" fmla="*/ 396720 w 39636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77920"/>
                  <a:gd name="textAreaBottom" fmla="*/ 1178280 h 1177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4640"/>
                  <a:gd name="textAreaBottom" fmla="*/ 1215000 h 121464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76480"/>
                  <a:gd name="textAreaBottom" fmla="*/ 1176840 h 11764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79000"/>
                  <a:gd name="textAreaBottom" fmla="*/ 1179360 h 117900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1520"/>
                  <a:gd name="textAreaBottom" fmla="*/ 731880 h 731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FDA6-2DBF-44CC-9583-8763C63E1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360"/>
              <a:ext cx="945720" cy="709920"/>
              <a:chOff x="3484080" y="9543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3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61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600"/>
                    <a:ext cx="712440" cy="49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000" y="2321280"/>
                    <a:ext cx="2560680" cy="2739960"/>
                    <a:chOff x="5760000" y="2321280"/>
                    <a:chExt cx="256068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520" y="3019320"/>
                      <a:ext cx="2128680" cy="385560"/>
                    </a:xfrm>
                    <a:custGeom>
                      <a:avLst/>
                      <a:gdLst>
                        <a:gd name="textAreaLeft" fmla="*/ 0 w 2128680"/>
                        <a:gd name="textAreaRight" fmla="*/ 2129040 w 212868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18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4160"/>
                    <a:ext cx="3039840" cy="2530440"/>
                    <a:chOff x="5787720" y="2144160"/>
                    <a:chExt cx="3039840" cy="25304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960"/>
                    </a:xfrm>
                    <a:custGeom>
                      <a:avLst/>
                      <a:gdLst>
                        <a:gd name="textAreaLeft" fmla="*/ 0 w 2235600"/>
                        <a:gd name="textAreaRight" fmla="*/ 2235960 w 2235600"/>
                        <a:gd name="textAreaTop" fmla="*/ 0 h 426960"/>
                        <a:gd name="textAreaBottom" fmla="*/ 427320 h 426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18080"/>
                      <a:ext cx="1200960" cy="672480"/>
                    </a:xfrm>
                    <a:custGeom>
                      <a:avLst/>
                      <a:gdLst>
                        <a:gd name="textAreaLeft" fmla="*/ 0 w 1200960"/>
                        <a:gd name="textAreaRight" fmla="*/ 120132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1000"/>
                    <a:ext cx="3097800" cy="1994760"/>
                    <a:chOff x="5774760" y="2061000"/>
                    <a:chExt cx="3097800" cy="19947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320" y="2516760"/>
                      <a:ext cx="2140560" cy="37512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960"/>
                      <a:ext cx="1149120" cy="58716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160" cy="1608840"/>
                    <a:chOff x="5767920" y="1967040"/>
                    <a:chExt cx="313416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0880" y="2276280"/>
                      <a:ext cx="2067480" cy="41364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3640"/>
                        <a:gd name="textAreaBottom" fmla="*/ 414000 h 413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1280"/>
                      <a:ext cx="1110600" cy="64872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720"/>
                        <a:gd name="textAreaBottom" fmla="*/ 649080 h 648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4400"/>
                    <a:chOff x="5805720" y="1874880"/>
                    <a:chExt cx="2939040" cy="100440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custGeom>
                      <a:avLst/>
                      <a:gdLst>
                        <a:gd name="textAreaLeft" fmla="*/ 0 w 1903680"/>
                        <a:gd name="textAreaRight" fmla="*/ 1904040 w 1903680"/>
                        <a:gd name="textAreaTop" fmla="*/ 0 h 385920"/>
                        <a:gd name="textAreaBottom" fmla="*/ 386280 h 385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9320"/>
                      <a:ext cx="1023120" cy="60372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89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19760"/>
                        <a:gd name="textAreaBottom" fmla="*/ 420120 h 419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040"/>
                    <a:ext cx="2557440" cy="2742480"/>
                    <a:chOff x="2646000" y="247104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68720"/>
                      <a:ext cx="2127600" cy="385560"/>
                    </a:xfrm>
                    <a:custGeom>
                      <a:avLst/>
                      <a:gdLst>
                        <a:gd name="textAreaLeft" fmla="*/ 360 w 2127600"/>
                        <a:gd name="textAreaRight" fmla="*/ 2128320 w 21276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3000"/>
                      <a:ext cx="1142640" cy="604080"/>
                    </a:xfrm>
                    <a:custGeom>
                      <a:avLst/>
                      <a:gdLst>
                        <a:gd name="textAreaLeft" fmla="*/ 360 w 1142640"/>
                        <a:gd name="textAreaRight" fmla="*/ 1143360 w 11426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4840"/>
                    <a:ext cx="3039840" cy="2532240"/>
                    <a:chOff x="2084040" y="2364840"/>
                    <a:chExt cx="3039840" cy="253224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67480"/>
                      <a:ext cx="2234160" cy="429120"/>
                    </a:xfrm>
                    <a:custGeom>
                      <a:avLst/>
                      <a:gdLst>
                        <a:gd name="textAreaLeft" fmla="*/ 360 w 2234160"/>
                        <a:gd name="textAreaRight" fmla="*/ 2234880 w 2234160"/>
                        <a:gd name="textAreaTop" fmla="*/ 0 h 429120"/>
                        <a:gd name="textAreaBottom" fmla="*/ 429480 h 429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39840"/>
                      <a:ext cx="1199880" cy="673560"/>
                    </a:xfrm>
                    <a:custGeom>
                      <a:avLst/>
                      <a:gdLst>
                        <a:gd name="textAreaLeft" fmla="*/ -360 w 1199880"/>
                        <a:gd name="textAreaRight" fmla="*/ 1199880 w 1199880"/>
                        <a:gd name="textAreaTop" fmla="*/ 0 h 673560"/>
                        <a:gd name="textAreaBottom" fmla="*/ 673920 h 673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79160"/>
                    <a:ext cx="3096720" cy="1992600"/>
                    <a:chOff x="2040480" y="2279160"/>
                    <a:chExt cx="309672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492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680" y="3459240"/>
                      <a:ext cx="1149120" cy="58752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520"/>
                        <a:gd name="textAreaBottom" fmla="*/ 587880 h 587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160" cy="1608840"/>
                    <a:chOff x="2010960" y="2185560"/>
                    <a:chExt cx="3134160" cy="160884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240" y="2494800"/>
                      <a:ext cx="2067840" cy="41436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4360"/>
                        <a:gd name="textAreaBottom" fmla="*/ 414720 h 414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9440"/>
                      <a:ext cx="1110600" cy="64908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9080"/>
                        <a:gd name="textAreaBottom" fmla="*/ 649440 h 649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4840"/>
                    <a:ext cx="2937240" cy="1002960"/>
                    <a:chOff x="2167560" y="2094840"/>
                    <a:chExt cx="2937240" cy="100296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20840"/>
                      <a:ext cx="1903680" cy="386280"/>
                    </a:xfrm>
                    <a:custGeom>
                      <a:avLst/>
                      <a:gdLst>
                        <a:gd name="textAreaLeft" fmla="*/ 360 w 1903680"/>
                        <a:gd name="textAreaRight" fmla="*/ 1904400 w 190368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9280"/>
                      <a:ext cx="1023120" cy="60228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2280"/>
                        <a:gd name="textAreaBottom" fmla="*/ 602640 h 602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8760"/>
                    <a:chOff x="2760480" y="1518480"/>
                    <a:chExt cx="2364120" cy="7887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698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704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26560"/>
                    <a:ext cx="2170080" cy="1507320"/>
                    <a:chOff x="3161160" y="826560"/>
                    <a:chExt cx="217008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808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4520"/>
                    <a:ext cx="1987920" cy="1829160"/>
                    <a:chOff x="3436920" y="434520"/>
                    <a:chExt cx="1987920" cy="182916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4560"/>
                      <a:ext cx="828360" cy="41832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25800"/>
                    <a:ext cx="1463400" cy="1892880"/>
                    <a:chOff x="4026960" y="325800"/>
                    <a:chExt cx="1463400" cy="18928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39640"/>
                      <a:ext cx="1359720" cy="265320"/>
                    </a:xfrm>
                    <a:custGeom>
                      <a:avLst/>
                      <a:gdLst>
                        <a:gd name="textAreaLeft" fmla="*/ -360 w 1359720"/>
                        <a:gd name="textAreaRight" fmla="*/ 1359720 w 13597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3640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7800" y="245520"/>
                    <a:ext cx="1124280" cy="1947960"/>
                    <a:chOff x="4447800" y="245520"/>
                    <a:chExt cx="1124280" cy="194796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7240" y="1402560"/>
                      <a:ext cx="1308960" cy="26496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440" cy="415440"/>
                    </a:xfrm>
                    <a:custGeom>
                      <a:avLst/>
                      <a:gdLst>
                        <a:gd name="textAreaLeft" fmla="*/ 360 w 703440"/>
                        <a:gd name="textAreaRight" fmla="*/ 704160 w 70344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7160"/>
                    <a:ext cx="2318760" cy="1113840"/>
                    <a:chOff x="5661720" y="947160"/>
                    <a:chExt cx="2318760" cy="11138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5400"/>
                      <a:ext cx="817560" cy="41940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custGeom>
                      <a:avLst/>
                      <a:gdLst>
                        <a:gd name="textAreaLeft" fmla="*/ 0 w 817560"/>
                        <a:gd name="textAreaRight" fmla="*/ 817920 w 817560"/>
                        <a:gd name="textAreaTop" fmla="*/ 0 h 418320"/>
                        <a:gd name="textAreaBottom" fmla="*/ 418680 h 418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7480"/>
                      <a:gd name="textAreaBottom" fmla="*/ 177840 h 177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5920" y="533520"/>
                    <a:ext cx="680040" cy="282240"/>
                  </a:xfrm>
                  <a:custGeom>
                    <a:avLst/>
                    <a:gdLst>
                      <a:gd name="textAreaLeft" fmla="*/ -360 w 680040"/>
                      <a:gd name="textAreaRight" fmla="*/ 680040 w 6800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8280"/>
                    <a:chOff x="5358240" y="267840"/>
                    <a:chExt cx="1191600" cy="189828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320" y="1413720"/>
                      <a:ext cx="1309320" cy="226440"/>
                    </a:xfrm>
                    <a:custGeom>
                      <a:avLst/>
                      <a:gdLst>
                        <a:gd name="textAreaLeft" fmla="*/ 0 w 1309320"/>
                        <a:gd name="textAreaRight" fmla="*/ 1309680 w 130932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3840"/>
                      <a:ext cx="703080" cy="35496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4960"/>
                        <a:gd name="textAreaBottom" fmla="*/ 355320 h 354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680" y="382680"/>
                    <a:ext cx="1889640" cy="1795680"/>
                    <a:chOff x="5350680" y="382680"/>
                    <a:chExt cx="1889640" cy="17956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0600" y="1381320"/>
                      <a:ext cx="1426320" cy="333000"/>
                    </a:xfrm>
                    <a:custGeom>
                      <a:avLst/>
                      <a:gdLst>
                        <a:gd name="textAreaLeft" fmla="*/ 0 w 1426320"/>
                        <a:gd name="textAreaRight" fmla="*/ 1426680 w 142632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960" y="579600"/>
                      <a:ext cx="767520" cy="520200"/>
                    </a:xfrm>
                    <a:custGeom>
                      <a:avLst/>
                      <a:gdLst>
                        <a:gd name="textAreaLeft" fmla="*/ 0 w 767520"/>
                        <a:gd name="textAreaRight" fmla="*/ 767880 w 767520"/>
                        <a:gd name="textAreaTop" fmla="*/ 0 h 520200"/>
                        <a:gd name="textAreaBottom" fmla="*/ 520560 h 5202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520" cy="1794960"/>
                    <a:chOff x="5459040" y="290160"/>
                    <a:chExt cx="42552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240" y="1442160"/>
                      <a:ext cx="1177200" cy="105840"/>
                    </a:xfrm>
                    <a:custGeom>
                      <a:avLst/>
                      <a:gdLst>
                        <a:gd name="textAreaLeft" fmla="*/ 0 w 1177200"/>
                        <a:gd name="textAreaRight" fmla="*/ 1177560 w 117720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760" y="530640"/>
                      <a:ext cx="630360" cy="166320"/>
                    </a:xfrm>
                    <a:custGeom>
                      <a:avLst/>
                      <a:gdLst>
                        <a:gd name="textAreaLeft" fmla="*/ 0 w 630360"/>
                        <a:gd name="textAreaRight" fmla="*/ 630720 w 630360"/>
                        <a:gd name="textAreaTop" fmla="*/ 0 h 166320"/>
                        <a:gd name="textAreaBottom" fmla="*/ 166320 h 166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6840"/>
                    <a:ext cx="2194200" cy="3005640"/>
                    <a:chOff x="3063240" y="2526840"/>
                    <a:chExt cx="2194200" cy="300564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6760" y="3312720"/>
                      <a:ext cx="2130120" cy="383040"/>
                    </a:xfrm>
                    <a:custGeom>
                      <a:avLst/>
                      <a:gdLst>
                        <a:gd name="textAreaLeft" fmla="*/ -360 w 2130120"/>
                        <a:gd name="textAreaRight" fmla="*/ 2130120 w 213012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360"/>
                      <a:ext cx="1140120" cy="604440"/>
                    </a:xfrm>
                    <a:custGeom>
                      <a:avLst/>
                      <a:gdLst>
                        <a:gd name="textAreaLeft" fmla="*/ -360 w 1140120"/>
                        <a:gd name="textAreaRight" fmla="*/ 1140120 w 1140120"/>
                        <a:gd name="textAreaTop" fmla="*/ 0 h 604440"/>
                        <a:gd name="textAreaBottom" fmla="*/ 604800 h 604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440" y="2646720"/>
                    <a:ext cx="1481760" cy="3003480"/>
                    <a:chOff x="3790440" y="2646720"/>
                    <a:chExt cx="1481760" cy="30034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360"/>
                      <a:ext cx="1968120" cy="381960"/>
                    </a:xfrm>
                    <a:custGeom>
                      <a:avLst/>
                      <a:gdLst>
                        <a:gd name="textAreaLeft" fmla="*/ -360 w 1968120"/>
                        <a:gd name="textAreaRight" fmla="*/ 1968120 w 1968120"/>
                        <a:gd name="textAreaTop" fmla="*/ 0 h 381960"/>
                        <a:gd name="textAreaBottom" fmla="*/ 382320 h 381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1840" y="4745160"/>
                      <a:ext cx="1056240" cy="603000"/>
                    </a:xfrm>
                    <a:custGeom>
                      <a:avLst/>
                      <a:gdLst>
                        <a:gd name="textAreaLeft" fmla="*/ 360 w 1056240"/>
                        <a:gd name="textAreaRight" fmla="*/ 1056960 w 105624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560" y="2695320"/>
                    <a:ext cx="876600" cy="2932200"/>
                    <a:chOff x="4507560" y="2695320"/>
                    <a:chExt cx="876600" cy="29322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5280" y="3483000"/>
                      <a:ext cx="1890720" cy="346320"/>
                    </a:xfrm>
                    <a:custGeom>
                      <a:avLst/>
                      <a:gdLst>
                        <a:gd name="textAreaLeft" fmla="*/ 360 w 1890720"/>
                        <a:gd name="textAreaRight" fmla="*/ 1891440 w 189072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5280"/>
                      <a:ext cx="1013040" cy="544680"/>
                    </a:xfrm>
                    <a:custGeom>
                      <a:avLst/>
                      <a:gdLst>
                        <a:gd name="textAreaLeft" fmla="*/ 360 w 1013040"/>
                        <a:gd name="textAreaRight" fmla="*/ 1013760 w 1013040"/>
                        <a:gd name="textAreaTop" fmla="*/ 0 h 544680"/>
                        <a:gd name="textAreaBottom" fmla="*/ 545040 h 54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0400"/>
                    <a:ext cx="2280960" cy="2954160"/>
                    <a:chOff x="5677560" y="2480400"/>
                    <a:chExt cx="2280960" cy="295416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4400" y="3248280"/>
                      <a:ext cx="2127600" cy="38304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3040"/>
                        <a:gd name="textAreaBottom" fmla="*/ 383400 h 383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120" y="4496400"/>
                      <a:ext cx="1140120" cy="604080"/>
                    </a:xfrm>
                    <a:custGeom>
                      <a:avLst/>
                      <a:gdLst>
                        <a:gd name="textAreaLeft" fmla="*/ 0 w 1140120"/>
                        <a:gd name="textAreaRight" fmla="*/ 1140480 w 114012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6600" y="2591640"/>
                    <a:ext cx="1756800" cy="3031200"/>
                    <a:chOff x="5646600" y="2591640"/>
                    <a:chExt cx="175680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3560" y="3394080"/>
                      <a:ext cx="2035080" cy="369720"/>
                    </a:xfrm>
                    <a:custGeom>
                      <a:avLst/>
                      <a:gdLst>
                        <a:gd name="textAreaLeft" fmla="*/ 0 w 2035080"/>
                        <a:gd name="textAreaRight" fmla="*/ 2035440 w 203508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120" y="4718880"/>
                      <a:ext cx="1089720" cy="575640"/>
                    </a:xfrm>
                    <a:custGeom>
                      <a:avLst/>
                      <a:gdLst>
                        <a:gd name="textAreaLeft" fmla="*/ 0 w 1089720"/>
                        <a:gd name="textAreaRight" fmla="*/ 1090080 w 1089720"/>
                        <a:gd name="textAreaTop" fmla="*/ 0 h 575640"/>
                        <a:gd name="textAreaBottom" fmla="*/ 575640 h 575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06840"/>
                    <a:ext cx="1228680" cy="2990520"/>
                    <a:chOff x="5576400" y="2706840"/>
                    <a:chExt cx="122868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38440"/>
                      <a:ext cx="1973160" cy="303120"/>
                    </a:xfrm>
                    <a:custGeom>
                      <a:avLst/>
                      <a:gdLst>
                        <a:gd name="textAreaLeft" fmla="*/ 0 w 1973160"/>
                        <a:gd name="textAreaRight" fmla="*/ 1973520 w 19731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0880"/>
                      <a:ext cx="1059840" cy="475920"/>
                    </a:xfrm>
                    <a:custGeom>
                      <a:avLst/>
                      <a:gdLst>
                        <a:gd name="textAreaLeft" fmla="*/ 0 w 1059840"/>
                        <a:gd name="textAreaRight" fmla="*/ 1060200 w 105984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>
                        <a:gd name="textAreaLeft" fmla="*/ 0 w 974880"/>
                        <a:gd name="textAreaRight" fmla="*/ 975240 w 974880"/>
                        <a:gd name="textAreaTop" fmla="*/ 0 h 474480"/>
                        <a:gd name="textAreaBottom" fmla="*/ 474840 h 474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3680" y="2883600"/>
                    <a:ext cx="664560" cy="2716920"/>
                    <a:chOff x="4963680" y="2883600"/>
                    <a:chExt cx="664560" cy="27169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4440" cy="231480"/>
                    </a:xfrm>
                    <a:custGeom>
                      <a:avLst/>
                      <a:gdLst>
                        <a:gd name="textAreaLeft" fmla="*/ 0 w 1774440"/>
                        <a:gd name="textAreaRight" fmla="*/ 1774800 w 177444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160" y="4926240"/>
                      <a:ext cx="951120" cy="364680"/>
                    </a:xfrm>
                    <a:custGeom>
                      <a:avLst/>
                      <a:gdLst>
                        <a:gd name="textAreaLeft" fmla="*/ 0 w 951120"/>
                        <a:gd name="textAreaRight" fmla="*/ 951480 w 951120"/>
                        <a:gd name="textAreaTop" fmla="*/ 0 h 364680"/>
                        <a:gd name="textAreaBottom" fmla="*/ 365040 h 3646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6280"/>
                <a:chOff x="2174400" y="677880"/>
                <a:chExt cx="6732720" cy="452628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6280"/>
                  <a:chOff x="2174400" y="677880"/>
                  <a:chExt cx="6732720" cy="452628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7560"/>
                  </a:xfrm>
                  <a:custGeom>
                    <a:avLst/>
                    <a:gdLst>
                      <a:gd name="textAreaLeft" fmla="*/ 0 w 3166560"/>
                      <a:gd name="textAreaRight" fmla="*/ 3166920 w 3166560"/>
                      <a:gd name="textAreaTop" fmla="*/ -360 h 2527560"/>
                      <a:gd name="textAreaBottom" fmla="*/ 2527560 h 25275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360"/>
                    <a:ext cx="2486880" cy="2935800"/>
                  </a:xfrm>
                  <a:custGeom>
                    <a:avLst/>
                    <a:gdLst>
                      <a:gd name="textAreaLeft" fmla="*/ 360 w 2486880"/>
                      <a:gd name="textAreaRight" fmla="*/ 2487600 w 2486880"/>
                      <a:gd name="textAreaTop" fmla="*/ 0 h 2935800"/>
                      <a:gd name="textAreaBottom" fmla="*/ 2936160 h 293580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8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4920"/>
                    <a:ext cx="3133440" cy="2936880"/>
                  </a:xfrm>
                  <a:custGeom>
                    <a:avLst/>
                    <a:gdLst>
                      <a:gd name="textAreaLeft" fmla="*/ 360 w 3133440"/>
                      <a:gd name="textAreaRight" fmla="*/ 3134160 w 3133440"/>
                      <a:gd name="textAreaTop" fmla="*/ 0 h 2936880"/>
                      <a:gd name="textAreaBottom" fmla="*/ 2937240 h 29368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3280"/>
                  </a:xfrm>
                  <a:custGeom>
                    <a:avLst/>
                    <a:gdLst>
                      <a:gd name="textAreaLeft" fmla="*/ -360 w 2282760"/>
                      <a:gd name="textAreaRight" fmla="*/ 2282760 w 228276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360"/>
                    <a:ext cx="940680" cy="2843280"/>
                  </a:xfrm>
                  <a:custGeom>
                    <a:avLst/>
                    <a:gdLst>
                      <a:gd name="textAreaLeft" fmla="*/ 0 w 940680"/>
                      <a:gd name="textAreaRight" fmla="*/ 941040 w 940680"/>
                      <a:gd name="textAreaTop" fmla="*/ 0 h 2843280"/>
                      <a:gd name="textAreaBottom" fmla="*/ 2843640 h 284328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8064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80640"/>
                      <a:gd name="textAreaBottom" fmla="*/ 1881000 h 188064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79440"/>
                  <a:ext cx="546120" cy="103284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1032840"/>
                    <a:gd name="textAreaBottom" fmla="*/ 1033200 h 103284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0080"/>
              <a:ext cx="6411960" cy="4710960"/>
              <a:chOff x="2343960" y="730080"/>
              <a:chExt cx="641196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3680"/>
                <a:ext cx="598320" cy="182484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98120"/>
                <a:ext cx="2617200" cy="284292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2920"/>
                  <a:gd name="textAreaBottom" fmla="*/ 2843280 h 28429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0200"/>
                <a:ext cx="1534320" cy="29358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56800"/>
                <a:ext cx="2930760" cy="293580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69000"/>
                <a:ext cx="469800" cy="29358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54960"/>
                <a:ext cx="1238040" cy="29358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5800"/>
                  <a:gd name="textAreaBottom" fmla="*/ 2936160 h 29358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65800"/>
                <a:ext cx="598320" cy="182484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840"/>
                  <a:gd name="textAreaBottom" fmla="*/ 1825200 h 1824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64960"/>
                <a:ext cx="543600" cy="1034280"/>
              </a:xfrm>
              <a:custGeom>
                <a:avLst/>
                <a:gdLst>
                  <a:gd name="textAreaLeft" fmla="*/ 0 w 543600"/>
                  <a:gd name="textAreaRight" fmla="*/ 543960 w 543600"/>
                  <a:gd name="textAreaTop" fmla="*/ -360 h 1034280"/>
                  <a:gd name="textAreaBottom" fmla="*/ 1034280 h 1034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3080"/>
                <a:ext cx="1338480" cy="188028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16240"/>
                <a:ext cx="858240" cy="188028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80280"/>
                  <a:gd name="textAreaBottom" fmla="*/ 1880640 h 1880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26600"/>
                <a:ext cx="1242000" cy="197424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27960"/>
                <a:ext cx="1872360" cy="131652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6520"/>
                  <a:gd name="textAreaBottom" fmla="*/ 1316880 h 13165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0080"/>
                <a:ext cx="819000" cy="176940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1769400"/>
                  <a:gd name="textAreaBottom" fmla="*/ 1769760 h 17694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2600"/>
                <a:ext cx="542880" cy="1032840"/>
              </a:xfrm>
              <a:custGeom>
                <a:avLst/>
                <a:gdLst>
                  <a:gd name="textAreaLeft" fmla="*/ 360 w 542880"/>
                  <a:gd name="textAreaRight" fmla="*/ 543600 w 542880"/>
                  <a:gd name="textAreaTop" fmla="*/ 0 h 1032840"/>
                  <a:gd name="textAreaBottom" fmla="*/ 1033200 h 1032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C031-4E02-4C63-B7B4-0F461B8D764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United States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Highest Court in the United States of Americ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125px-Seal_of_the_United_States_Supreme_Court"/>
          <p:cNvPicPr/>
          <p:nvPr/>
        </p:nvPicPr>
        <p:blipFill>
          <a:blip r:embed="rId1"/>
          <a:stretch/>
        </p:blipFill>
        <p:spPr>
          <a:xfrm>
            <a:off x="6477120" y="1447920"/>
            <a:ext cx="190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Execu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executive branch can refuse to enforce the ruling of the Supreme Court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sti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re are nine justices on the Supreme Court. There is one chief justice and eight associate justic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Current Supreme Cou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4" name="Content Placeholder 3" descr="courtx-wide-community.jpg"/>
          <p:cNvPicPr/>
          <p:nvPr/>
        </p:nvPicPr>
        <p:blipFill>
          <a:blip r:embed="rId1"/>
          <a:stretch/>
        </p:blipFill>
        <p:spPr>
          <a:xfrm>
            <a:off x="1905120" y="2286000"/>
            <a:ext cx="5333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Chief Justice John Roberts (Appointed by President George W. Bush in 2005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7" name="Picture 4" descr="196px-Official_roberts_CJ"/>
          <p:cNvPicPr/>
          <p:nvPr/>
        </p:nvPicPr>
        <p:blipFill>
          <a:blip r:embed="rId1"/>
          <a:stretch/>
        </p:blipFill>
        <p:spPr>
          <a:xfrm>
            <a:off x="3200400" y="2819520"/>
            <a:ext cx="24890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onin Scalia (Appointed by President Reagan in 198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194px-Antonin_Scalia%2C_SCOTUS_photo_portrait"/>
          <p:cNvPicPr/>
          <p:nvPr/>
        </p:nvPicPr>
        <p:blipFill>
          <a:blip r:embed="rId1"/>
          <a:stretch/>
        </p:blipFill>
        <p:spPr>
          <a:xfrm>
            <a:off x="3352680" y="228600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Anthony Kennedy (Appointed by President Reagan in 1988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3" name="Picture 4" descr="194px-Anthony_Kennedy_Official"/>
          <p:cNvPicPr/>
          <p:nvPr/>
        </p:nvPicPr>
        <p:blipFill>
          <a:blip r:embed="rId1"/>
          <a:stretch/>
        </p:blipFill>
        <p:spPr>
          <a:xfrm>
            <a:off x="327672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Clarence Thomas (Appointed by President George H.W. Bush in 1991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6" name="Picture 4" descr="194px-Clarence_Thomas_official"/>
          <p:cNvPicPr/>
          <p:nvPr/>
        </p:nvPicPr>
        <p:blipFill>
          <a:blip r:embed="rId1"/>
          <a:stretch/>
        </p:blipFill>
        <p:spPr>
          <a:xfrm>
            <a:off x="3048120" y="24382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Ruth Bader Ginsburg (Appointed by President Clinton in 1993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9" name="Picture 4" descr="194px-Ruth_Bader_Ginsburg%2C_SCOTUS_photo_portrait"/>
          <p:cNvPicPr/>
          <p:nvPr/>
        </p:nvPicPr>
        <p:blipFill>
          <a:blip r:embed="rId1"/>
          <a:stretch/>
        </p:blipFill>
        <p:spPr>
          <a:xfrm>
            <a:off x="327672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tephen Breyer (Appointed by President Clinton in 1994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94px-Stephen_Breyer%2C_SCOTUS_photo_portrait"/>
          <p:cNvPicPr/>
          <p:nvPr/>
        </p:nvPicPr>
        <p:blipFill>
          <a:blip r:embed="rId1"/>
          <a:stretch/>
        </p:blipFill>
        <p:spPr>
          <a:xfrm>
            <a:off x="3200400" y="2209680"/>
            <a:ext cx="246384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amuel Alito (Appointed by President George W. Bush in 2006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5" name="Picture 4" descr="194px-010_alito"/>
          <p:cNvPicPr/>
          <p:nvPr/>
        </p:nvPicPr>
        <p:blipFill>
          <a:blip r:embed="rId1"/>
          <a:stretch/>
        </p:blipFill>
        <p:spPr>
          <a:xfrm>
            <a:off x="3200400" y="2362320"/>
            <a:ext cx="2463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Judicial Branch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rticle III of the Constitution established the judicial branch of government headed by a national Supreme Cour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mary function of the judicial branch is to interpret the Constitutionality of laws and other governmental ac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Sonia Sotomayor (Appointed by President Obama in 2009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Content Placeholder 4" descr="225px-Sonia_Sotomayor_in_SCOTUS_robe.jpg"/>
          <p:cNvPicPr/>
          <p:nvPr/>
        </p:nvPicPr>
        <p:blipFill>
          <a:blip r:embed="rId1"/>
          <a:stretch/>
        </p:blipFill>
        <p:spPr>
          <a:xfrm>
            <a:off x="2819520" y="2209680"/>
            <a:ext cx="24382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ociate Justice Elena Kagan (Appointed by President Obama in 2010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9" name="Content Placeholder 3" descr="225px-Elena_Kagan_SCOTUS_portrait.jpg"/>
          <p:cNvPicPr/>
          <p:nvPr/>
        </p:nvPicPr>
        <p:blipFill>
          <a:blip r:embed="rId1"/>
          <a:stretch/>
        </p:blipFill>
        <p:spPr>
          <a:xfrm>
            <a:off x="2743200" y="1828800"/>
            <a:ext cx="285768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iscellaneous Inform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are appointed by the President and approved by the Senat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preme Court Justices serve for lif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hief justice receives $217,400 per year while the associate justices receive $208,100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preme Court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has both original and appellate jurisdiction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upreme Court is the final authority on the Constitution and the laws of the United State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Original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Supreme Court has original jurisdiction in cases involving ambassadors, maritime issues, cases where the United States is a party, cases between two or more states, etc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se cases are rarely heard by the Supreme Cour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pellate Jurisdic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 Supreme Court receives over 6000 appeals cases per year. The Supreme Court actually hears around 150 of these cases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Appeals C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 the Supreme Court to accept a case on appeal there must be a significant legal or Constitutional question that must be decid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ecision of the Supreme Court can’t be appeal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is the power of the Supreme Court to review any federal or state law to see if it is in agreement with the Constitution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e Supreme Court finds a law to be unconstitutional it has the power to nullify the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Judicial Review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rinciple of judicial review was established in 1803 with the Supreme Court case of </a:t>
            </a:r>
            <a:r>
              <a:rPr b="0" i="1" lang="en-US" sz="3200" spc="-1" strike="noStrike">
                <a:solidFill>
                  <a:srgbClr val="ffcc00"/>
                </a:solidFill>
                <a:latin typeface="Arial Black"/>
              </a:rPr>
              <a:t>Marbury v. Madison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egislative Checks and Balances on the Supreme Cour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legislative branch can get around a ruling by changing a law so that it no longer conflicts with the Constitu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the legislative branch can initiate the amendment process which would change the Constitution and U.S. la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6:26:23Z</dcterms:created>
  <dc:creator>Sys Admin</dc:creator>
  <dc:description/>
  <dc:language>en-US</dc:language>
  <cp:lastModifiedBy>SysAdmin</cp:lastModifiedBy>
  <dcterms:modified xsi:type="dcterms:W3CDTF">2010-10-11T18:58:51Z</dcterms:modified>
  <cp:revision>34</cp:revision>
  <dc:subject/>
  <dc:title>The United States Supreme Court</dc:title>
</cp:coreProperties>
</file>